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963525" cy="8640763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6952-F7A4-4CD4-BBEC-E5AA041F0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280" y="345960"/>
            <a:ext cx="11666520" cy="14400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7280" y="2016000"/>
            <a:ext cx="1166652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7280" y="4995360"/>
            <a:ext cx="1166652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1D58-E962-4989-8D58-591130D7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280" y="345960"/>
            <a:ext cx="11666520" cy="14400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7280" y="2016000"/>
            <a:ext cx="56930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25440" y="2016000"/>
            <a:ext cx="56930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7280" y="4995360"/>
            <a:ext cx="56930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25440" y="4995360"/>
            <a:ext cx="56930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EED3-A365-4CD1-8295-5369371C0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7280" y="345960"/>
            <a:ext cx="11666520" cy="14400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7280" y="2016000"/>
            <a:ext cx="37562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1800" y="2016000"/>
            <a:ext cx="37562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36320" y="2016000"/>
            <a:ext cx="37562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7280" y="4995360"/>
            <a:ext cx="37562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91800" y="4995360"/>
            <a:ext cx="37562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36320" y="4995360"/>
            <a:ext cx="37562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65E0-F804-4F9F-A52B-4DB8CBA80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280" y="345960"/>
            <a:ext cx="11666520" cy="14400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7280" y="2016000"/>
            <a:ext cx="11666520" cy="57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DE06-1D2E-43F6-AF63-D650780D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280" y="345960"/>
            <a:ext cx="11666520" cy="14400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7280" y="2016000"/>
            <a:ext cx="11666520" cy="570384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EE8F-1787-4529-AE9B-0FA7067A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280" y="345960"/>
            <a:ext cx="11666520" cy="14400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7280" y="2016000"/>
            <a:ext cx="5693040" cy="570384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25440" y="2016000"/>
            <a:ext cx="5693040" cy="570384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2170-C294-44CB-8049-724079A4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280" y="345960"/>
            <a:ext cx="11666520" cy="14400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EC31-33A8-4B44-A80F-85AD4F60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7280" y="345960"/>
            <a:ext cx="116665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87B2-427A-45AA-82D7-54F44EAB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7280" y="345960"/>
            <a:ext cx="11666520" cy="14400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7280" y="2016000"/>
            <a:ext cx="56930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25440" y="2016000"/>
            <a:ext cx="5693040" cy="570384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7280" y="4995360"/>
            <a:ext cx="56930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F761-CB7C-4477-9DFA-43BAFF40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7280" y="345960"/>
            <a:ext cx="11666520" cy="14400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280" y="2016000"/>
            <a:ext cx="5693040" cy="570384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25440" y="2016000"/>
            <a:ext cx="56930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25440" y="4995360"/>
            <a:ext cx="56930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3EE7-43E7-4CE2-B531-C55493ED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7280" y="345960"/>
            <a:ext cx="11666520" cy="14400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7280" y="2016000"/>
            <a:ext cx="56930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25440" y="2016000"/>
            <a:ext cx="56930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7280" y="4995360"/>
            <a:ext cx="1166652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E25A-5D5F-49DC-901F-5B378B4C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280" y="345960"/>
            <a:ext cx="11666520" cy="14400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7280" y="2016000"/>
            <a:ext cx="11666520" cy="570384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marL="441360" indent="-44136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957240" indent="-36828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2" marL="1471680" indent="-29376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3" marL="2062080" indent="-29376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4" marL="2651040" indent="-29376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5" marL="2651040" indent="-29376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6" marL="2651040" indent="-29376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280" y="7868880"/>
            <a:ext cx="3024360" cy="6001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Autofit/>
          </a:bodyPr>
          <a:lstStyle>
            <a:lvl1pPr indent="0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  <a:defRPr b="0" lang="zh-TW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0" lang="zh-TW" sz="1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28720" y="7868880"/>
            <a:ext cx="4103640" cy="6001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Autofit/>
          </a:bodyPr>
          <a:lstStyle>
            <a:lvl1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  <a:defRPr b="0" lang="zh-TW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0" lang="zh-TW" sz="1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90160" y="7868880"/>
            <a:ext cx="3024000" cy="6001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Autofit/>
          </a:bodyPr>
          <a:lstStyle>
            <a:lvl1pPr indent="0" algn="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  <a:defRPr b="0" lang="zh-TW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fld id="{F61C3A34-6C07-41A1-BEC3-AA51BEDBA46B}" type="slidenum">
              <a:rPr b="0" lang="zh-TW" sz="1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560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28116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160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30272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2724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32432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324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4592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5924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6752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7524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8908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9088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1068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0688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3228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2288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5385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3852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7545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5452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9705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7052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1865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8652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4021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0216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6181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1816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8341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3416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0498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4980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2658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6580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4818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8180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6978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69780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9134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1344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1294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2944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3454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4544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75614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6144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7770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77708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9930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9308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82090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0908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84247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42472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86407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64072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88567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85672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90727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7272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92883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28836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95043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50436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97203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72036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99360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3600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01520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15200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03680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36800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48000" y="287280"/>
            <a:ext cx="849636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Book Antiqua"/>
              </a:rPr>
              <a:t>Start-of-Line Detai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05854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58544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08014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80144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10188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01888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12348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23488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14523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45232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16679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66796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735280" y="2016000"/>
            <a:ext cx="9289440" cy="450720"/>
            <a:chOff x="2735280" y="2016000"/>
            <a:chExt cx="9289440" cy="450720"/>
          </a:xfrm>
        </p:grpSpPr>
        <p:sp>
          <p:nvSpPr>
            <p:cNvPr id="128" name=""/>
            <p:cNvSpPr/>
            <p:nvPr/>
          </p:nvSpPr>
          <p:spPr>
            <a:xfrm>
              <a:off x="2808000" y="2043000"/>
              <a:ext cx="43200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4000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71640" y="2043000"/>
              <a:ext cx="43200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0364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35280" y="2043000"/>
              <a:ext cx="43200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6728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98920" y="2043000"/>
              <a:ext cx="43200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3092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6256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694200" y="2043000"/>
              <a:ext cx="43200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12620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57840" y="2043000"/>
              <a:ext cx="43200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8984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1480" y="2043000"/>
              <a:ext cx="43200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85348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285120" y="2043000"/>
              <a:ext cx="43200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71712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14876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2735280" y="2016000"/>
              <a:ext cx="9289440" cy="450720"/>
              <a:chOff x="2735280" y="2016000"/>
              <a:chExt cx="9289440" cy="450720"/>
            </a:xfrm>
          </p:grpSpPr>
          <p:sp>
            <p:nvSpPr>
              <p:cNvPr id="147" name=""/>
              <p:cNvSpPr/>
              <p:nvPr/>
            </p:nvSpPr>
            <p:spPr>
              <a:xfrm>
                <a:off x="273528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17016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605400" y="2016000"/>
                <a:ext cx="56664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04064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7588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91112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34636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78160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21684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65208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08732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522200" y="2016000"/>
                <a:ext cx="56664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95780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39268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2828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926316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969876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013832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057860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101888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5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145844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5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1058220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01564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44908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280836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3528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66920" y="235728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7200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9892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0364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30560" y="235728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3564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6256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6728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9892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2620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3092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5784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6256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8984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69456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2148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2620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053120" y="235728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55820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48512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8984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16760" y="235728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42184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4876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85348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78040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28512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21240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71712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64404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14876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07604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58076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50768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01240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939320" y="235728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44440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37132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80836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3528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4000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6692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67200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9892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10364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03056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3708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6400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6872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9600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40072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2764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3236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75928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6436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9128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69600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62292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2800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05492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55964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48656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99164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91856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42328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5020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85492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78220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28692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21384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71856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64548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15056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07748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58220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50912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01420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4112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44584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137276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0836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3528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6692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67200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9892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10364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03056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3708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6400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96872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89600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40072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2764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83236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75928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6580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9272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9780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62472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12944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05636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56144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8836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99308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92000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42472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35200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85672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78364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28836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21528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72036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64728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015200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007892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058400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51092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01564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094256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145052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137744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35280" y="3527280"/>
            <a:ext cx="903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00360" y="3960720"/>
            <a:ext cx="140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4103640" y="374472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10364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31964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35640" y="3745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75128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6728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183280" y="3745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9892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61492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83092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046920" y="3745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26256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47856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69456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910560" y="3745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12620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34220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558200" y="3745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77384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98984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20584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421840" y="3745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63748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85348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069480" y="3745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28512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50112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71712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933120" y="3745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014876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036476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058076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0796760" y="3745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101240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122840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1444400" y="3745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66004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4535640" y="475272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535640" y="4753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967280" y="475272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967280" y="4968720"/>
            <a:ext cx="3025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2700360" y="4970520"/>
            <a:ext cx="183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751280" y="475452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7993080" y="475272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993080" y="4753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8424720" y="475272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424720" y="496872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209080" y="475452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423280" y="4970520"/>
            <a:ext cx="3025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11449080" y="475452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1449080" y="475452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11880720" y="475452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1665080" y="475632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705040" y="4321080"/>
            <a:ext cx="140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4108320" y="410508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10832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32432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54032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756320" y="41054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97196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18796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403960" y="41054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61960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83560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05160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267600" y="41054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48324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69924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15240" y="41054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13088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34688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56288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778880" y="41054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99452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21052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42652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642520" y="41054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85816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07416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9290160" y="41054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950580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972180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993780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0153800" y="41054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36944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058544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0801440" y="41054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01708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23308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144908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665080" y="41054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700360" y="4608360"/>
            <a:ext cx="4862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7562880" y="439236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56288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8880" y="439272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99452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21052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42652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642520" y="439272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85816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907416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9290160" y="439272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950580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72180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993780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153800" y="439272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036944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058544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0801440" y="439272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01708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23308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144908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1665080" y="439272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4751280" y="51102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751280" y="511020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5183280" y="51102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183280" y="5326200"/>
            <a:ext cx="3025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2700000" y="5327640"/>
            <a:ext cx="2050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967280" y="5111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8209080" y="51102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209080" y="511020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8640720" y="51102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40720" y="532620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424720" y="5111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639280" y="5327640"/>
            <a:ext cx="3025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11665080" y="5111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665080" y="5111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967280" y="546732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967280" y="54673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5398920" y="546732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398920" y="5683320"/>
            <a:ext cx="3025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2700000" y="5689440"/>
            <a:ext cx="22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183280" y="546876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8424720" y="546732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424720" y="54673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8856720" y="546732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856720" y="56833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640720" y="54687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854920" y="5684760"/>
            <a:ext cx="3025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5183280" y="5832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183280" y="583236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5614920" y="5832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614920" y="6048360"/>
            <a:ext cx="3025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 flipV="1">
            <a:off x="2700000" y="6048360"/>
            <a:ext cx="2482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398920" y="583416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8640720" y="5832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8640720" y="5832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9072720" y="5832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072720" y="604836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856720" y="583416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9070920" y="6048360"/>
            <a:ext cx="2773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5183280" y="618948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6048360" y="618948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6048360" y="6407280"/>
            <a:ext cx="2592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2700000" y="6407280"/>
            <a:ext cx="2482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8640720" y="618948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9502920" y="6407280"/>
            <a:ext cx="2341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184720" y="619272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9504360" y="619272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640720" y="619596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374920" y="6985080"/>
            <a:ext cx="3456000" cy="216000"/>
          </a:xfrm>
          <a:prstGeom prst="hexagon">
            <a:avLst>
              <a:gd name="adj" fmla="val 29407"/>
              <a:gd name="vf" fmla="val 115470"/>
            </a:avLst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5832360" y="6551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2700360" y="6769080"/>
            <a:ext cx="31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832360" y="65530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6048360" y="65530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6048360" y="6769080"/>
            <a:ext cx="324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9288360" y="65530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9288360" y="65548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9504360" y="655452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9504360" y="6769080"/>
            <a:ext cx="234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830920" y="6985080"/>
            <a:ext cx="3456000" cy="21600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9286920" y="6985080"/>
            <a:ext cx="3456000" cy="21600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700360" y="151128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27986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9145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27986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9163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0146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31305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30146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1320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2306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33465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32306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3480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4466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35622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344664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5640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36622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7782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6622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78000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8782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39942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8782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9956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40942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42102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40942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2116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43099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44258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430992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4276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45259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46418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452592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328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47419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48578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474192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5928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49579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50734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495792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07528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51735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52894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51735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29128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53895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55054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53895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5069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56055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57214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6055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7229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58212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59371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8212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9389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60372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61531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60372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1545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62532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63691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62532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3705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64692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65851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64692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5865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66848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68007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66848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8025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69008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70167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69008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0182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71168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72327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71168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2342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73328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74484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733284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4502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75484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644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75484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66620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77644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78804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77644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8818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79804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80964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79804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80978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81961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83120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819612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3138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84121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85280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841212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52948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86281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87440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862812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874548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88441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89596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884412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896148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90597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91756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90597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917748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92757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93916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92757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93931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94917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96076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94917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96091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97074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98233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97074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98251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99234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100393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99234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00407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101394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102553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101394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02567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103554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104713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103554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04727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105710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106869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105710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06887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107870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109029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07870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09044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110030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111189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110030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11204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112190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113346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1121904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13364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14346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115506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114346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155240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116506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117666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116506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17680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4103640" y="73422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103640" y="734220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4535640" y="73422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2700360" y="7559640"/>
            <a:ext cx="140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319640" y="7343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4535640" y="7559640"/>
            <a:ext cx="302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7559640" y="7343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559640" y="7343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7991640" y="7343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775640" y="734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11015640" y="73454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1015640" y="734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1447640" y="73454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1231640" y="734688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7920000" y="7543800"/>
            <a:ext cx="4022640" cy="576360"/>
            <a:chOff x="7920000" y="7543800"/>
            <a:chExt cx="4022640" cy="576360"/>
          </a:xfrm>
        </p:grpSpPr>
        <p:sp>
          <p:nvSpPr>
            <p:cNvPr id="655" name=""/>
            <p:cNvSpPr/>
            <p:nvPr/>
          </p:nvSpPr>
          <p:spPr>
            <a:xfrm flipH="1">
              <a:off x="7991640" y="7545600"/>
              <a:ext cx="30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11447640" y="7543800"/>
              <a:ext cx="39672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993080" y="7696440"/>
              <a:ext cx="431640" cy="21564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920000" y="7669440"/>
              <a:ext cx="5666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426520" y="7696440"/>
              <a:ext cx="431640" cy="21564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353440" y="7669440"/>
              <a:ext cx="5666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858160" y="7696440"/>
              <a:ext cx="432000" cy="21564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785080" y="7669440"/>
              <a:ext cx="5670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9290160" y="7696440"/>
              <a:ext cx="431640" cy="21564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9217080" y="7669440"/>
              <a:ext cx="5666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9721800" y="7696440"/>
              <a:ext cx="432000" cy="21564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9648720" y="7669440"/>
              <a:ext cx="5670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0153800" y="7696440"/>
              <a:ext cx="431640" cy="21564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0080720" y="7669440"/>
              <a:ext cx="5666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0585440" y="7696440"/>
              <a:ext cx="432000" cy="21564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0512360" y="7669440"/>
              <a:ext cx="5670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017440" y="7696440"/>
              <a:ext cx="431640" cy="21564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0944360" y="7669440"/>
              <a:ext cx="5666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1449080" y="7696440"/>
              <a:ext cx="431640" cy="21564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1376000" y="7669440"/>
              <a:ext cx="5666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2519280" y="7704000"/>
            <a:ext cx="5473800" cy="216000"/>
          </a:xfrm>
          <a:prstGeom prst="roundRect">
            <a:avLst>
              <a:gd name="adj" fmla="val 36764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448000" y="8280360"/>
            <a:ext cx="2092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4540320" y="8064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54032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756320" y="806436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97196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18796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403960" y="806436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61960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83560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05160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267600" y="806436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48324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69924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915240" y="806436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13088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34688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56288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778880" y="806436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99452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821052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842652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8642520" y="806436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885816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907416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9290160" y="806436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950580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972180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993780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0153800" y="806436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036944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058544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0801440" y="806436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101708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123308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144908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1665080" y="806436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188072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209672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31640" y="1251000"/>
            <a:ext cx="2327400" cy="710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32360" y="15778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Pixel_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31640" y="19447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H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31280" y="2297160"/>
            <a:ext cx="18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VVidBuf_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31640" y="265752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VidBuf_countx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31280" y="301788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HVidBuf_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31640" y="337824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VVidBuf_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31640" y="373860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HVidBuf_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31280" y="4098960"/>
            <a:ext cx="22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VidBuf_Load_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32360" y="445932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VidBuf_Data_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32360" y="481968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2Emc_Ena_pi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31640" y="518004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Buf_Ena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31640" y="554040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Buf_En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31640" y="590076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Buf_En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33080" y="62611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2Emc_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33800" y="662148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c2Vid_xfe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32360" y="697860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VidBuf_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31280" y="733428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LoadN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31640" y="76262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32360" y="791352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HBlank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32360" y="128916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OPB_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1844360" y="1251000"/>
            <a:ext cx="973080" cy="71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808360" y="115092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240000" y="115236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672000" y="115416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103640" y="115560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35640" y="115740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967280" y="115884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398920" y="116064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830920" y="116208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262560" y="116352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694560" y="116532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126200" y="116676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558200" y="116856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989840" y="117000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8421840" y="117144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853480" y="117324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9285120" y="117468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9717120" y="117648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0148760" y="117792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0580760" y="117936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1012400" y="118116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1444400" y="118260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736720" y="345600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637236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65880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658800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68040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80400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70200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02000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72360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23600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74516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745164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76676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66764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78836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88364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80992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09928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83152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31528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85312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853128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87472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874728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89629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896292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91789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917892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93949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939492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96105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961056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98265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982656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100425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004256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102585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025856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104742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047420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106902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069020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109062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1090620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111222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112220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113396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133964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15552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155528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117730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177308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119887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198872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122061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220616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124221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242216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4771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65754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66913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65754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6927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67914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69073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67914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9087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70074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71229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700740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71247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72230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73389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72230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734076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74390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75549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74390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75564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76550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77709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76550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77724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78706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79866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78706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9884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80866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82026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80866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2040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83026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84186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83026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84200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85186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86342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851868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86360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87343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88502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873432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85204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89503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90662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895032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906768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91663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92822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916632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928368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93819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94978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93819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949968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95979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97138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95979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971568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98139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 flipV="1">
            <a:off x="99298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98139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99313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V="1">
            <a:off x="100299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 flipV="1">
            <a:off x="101458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100299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01473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102456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103615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102456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103633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104616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 flipV="1">
            <a:off x="105775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04616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05789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106776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107935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 flipV="1">
            <a:off x="106776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107949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108936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110091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1089360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10109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111092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112251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111092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122696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113252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114411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113252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114426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115412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116571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115412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16586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117568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118728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117568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18746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119728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120888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119728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120902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121888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123048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121888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23062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124048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125204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1240488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125222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27016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48616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27018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70180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29178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91780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31338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13380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33498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34980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35654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356544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37814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78144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39974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99744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42130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21308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44290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42908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46450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64508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48610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86108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50767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07672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52927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529272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55087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550872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57243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72436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59403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94036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61563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615636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63723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637236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65880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58800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68040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80400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70200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02000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72360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723600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736720" y="277920"/>
            <a:ext cx="849636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Book Antiqua"/>
              </a:rPr>
              <a:t>End-of-Line Detai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74534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745344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V="1">
            <a:off x="76690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66908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 flipV="1">
            <a:off x="78868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788688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81025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810252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83199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831996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85359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853596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2266920" y="20430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269892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13056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562200" y="20430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399420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4425840" y="20430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485784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289480" y="20430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572148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153120" y="20430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58512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01676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221472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64960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08448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519360" y="201600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3956040" y="2016000"/>
            <a:ext cx="5652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390920" y="201600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82616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526104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569592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130800" y="201600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56604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007400" y="2016000"/>
            <a:ext cx="564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44696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88688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832644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45020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788364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831708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26692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2193840" y="235728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69892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262584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26836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219564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658656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651348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701820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94548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745020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737712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788184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780876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831384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824076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195640" y="310212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684360" y="3535200"/>
            <a:ext cx="11666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248292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698920" y="375120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91456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313056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346560" y="375120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356220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377820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99420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4210200" y="375120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42584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464184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857840" y="375120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507348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28948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550548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5721480" y="375120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93712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15312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36912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6585120" y="375120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80076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701676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7232760" y="375120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744840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766440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88040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8096400" y="375120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8312040" y="39654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8528040" y="3965400"/>
            <a:ext cx="4110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835280" y="5045040"/>
            <a:ext cx="3025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861080" y="482256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4861080" y="482292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5292720" y="482256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5076720" y="482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5292720" y="5040360"/>
            <a:ext cx="777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2557440" y="4103640"/>
            <a:ext cx="576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11280" y="4464000"/>
            <a:ext cx="813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2050920" y="5402160"/>
            <a:ext cx="3025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 flipV="1">
            <a:off x="5076720" y="518616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076720" y="51865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5508720" y="518616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5292720" y="518796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266920" y="5759280"/>
            <a:ext cx="3025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5292720" y="554328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292720" y="5543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5724360" y="554328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724360" y="575928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5508720" y="554508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942160" y="5761080"/>
            <a:ext cx="712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2482920" y="6124680"/>
            <a:ext cx="3025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5508720" y="59086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5508720" y="5908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5940360" y="59086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5940360" y="6124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5724360" y="591012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5938920" y="6119640"/>
            <a:ext cx="655488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 flipV="1">
            <a:off x="2916360" y="62658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 flipV="1">
            <a:off x="2916360" y="6482880"/>
            <a:ext cx="2592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flipV="1">
            <a:off x="5508720" y="62658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373800" y="6480000"/>
            <a:ext cx="612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2052720" y="626904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6372360" y="62690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5508720" y="627228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 flipV="1">
            <a:off x="2700360" y="662760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 flipH="1">
            <a:off x="541080" y="6845400"/>
            <a:ext cx="187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2700360" y="66294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2916360" y="66294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2916360" y="6845400"/>
            <a:ext cx="324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 flipV="1">
            <a:off x="6156360" y="66294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6156360" y="66308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6372360" y="66308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6372000" y="6840360"/>
            <a:ext cx="6049800" cy="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698920" y="7061040"/>
            <a:ext cx="3455640" cy="216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 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154560" y="7061040"/>
            <a:ext cx="2162520" cy="216000"/>
          </a:xfrm>
          <a:prstGeom prst="hexagon">
            <a:avLst>
              <a:gd name="adj" fmla="val 18401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5909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 flipV="1">
            <a:off x="26892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 flipV="1">
            <a:off x="28051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flipV="1">
            <a:off x="26892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28065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 flipV="1">
            <a:off x="29052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30211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29052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0225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31212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32367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 flipV="1">
            <a:off x="312120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32385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33368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 flipV="1">
            <a:off x="34527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 flipV="1">
            <a:off x="33368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345456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 flipV="1">
            <a:off x="35528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 flipV="1">
            <a:off x="36687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 flipV="1">
            <a:off x="35528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36702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 flipV="1">
            <a:off x="37688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 flipV="1">
            <a:off x="38847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37688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8862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 flipV="1">
            <a:off x="39844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41004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39844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1022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V="1">
            <a:off x="42004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 flipV="1">
            <a:off x="43164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 flipV="1">
            <a:off x="42004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43178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44164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45324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44164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5338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46324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 flipV="1">
            <a:off x="47480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463248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47498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48481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49640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484812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496584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 flipV="1">
            <a:off x="50641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 flipV="1">
            <a:off x="51800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506412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18148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 flipV="1">
            <a:off x="52801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 flipV="1">
            <a:off x="53960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528012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39748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54957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56116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V="1">
            <a:off x="54957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561348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57117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 flipV="1">
            <a:off x="58276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 flipV="1">
            <a:off x="57117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582948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59277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60436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 flipV="1">
            <a:off x="59277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0451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 flipV="1">
            <a:off x="61437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 flipV="1">
            <a:off x="62596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 flipV="1">
            <a:off x="61437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62611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63594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64753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63594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64771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65754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66913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flipV="1">
            <a:off x="65754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66927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67914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69073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67914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69087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70074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71229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700740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71247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72230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73389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 flipV="1">
            <a:off x="72230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734076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 flipV="1">
            <a:off x="74390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 flipV="1">
            <a:off x="75549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74390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75564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76550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77709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76550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77724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78706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79866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78706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79884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80866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82026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80866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82040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83026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84186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83026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84200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85186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86342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851868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86360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1115640" y="7632720"/>
            <a:ext cx="33130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4427640" y="74199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427640" y="741996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4859280" y="74199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4643280" y="74214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7883640" y="74214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7883640" y="742140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8315280" y="74214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8099280" y="742320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 flipH="1">
            <a:off x="4858920" y="7621560"/>
            <a:ext cx="302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 flipH="1">
            <a:off x="8317080" y="7637400"/>
            <a:ext cx="475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7021440" y="77724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6948360" y="774540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7454880" y="77724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7381800" y="77454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886880" y="77724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7813800" y="77454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8318520" y="77724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8245440" y="77454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8750160" y="77724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8677440" y="77454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9182160" y="77724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9109080" y="77454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9613800" y="77724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9540720" y="774540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0045800" y="77724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9972720" y="77454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0477440" y="77724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0404360" y="774540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248760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270360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291924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313524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335124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356724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378288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615960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637524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659124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680724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702324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723888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745488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767088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788688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810252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831852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853452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875016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896616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918216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939816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961380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982980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1004580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1026144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1047744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1069344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468360" y="1251000"/>
            <a:ext cx="2160720" cy="710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89440" y="15778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Pixel_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89080" y="19447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H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288360" y="2297160"/>
            <a:ext cx="18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VVidBuf_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89080" y="265752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VidBuf_countx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288720" y="302436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HVidBuf_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88720" y="338472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VVidBuf_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289080" y="374508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HVidBuf_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288360" y="4105440"/>
            <a:ext cx="22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VidBuf_Load_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289440" y="446580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VidBuf_Data_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289800" y="489600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2Emc_Ena_pi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289080" y="525636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Buf_Ena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289080" y="561672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Buf_En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289080" y="597708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Buf_En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290160" y="63374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2Emc_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291240" y="669780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c2Vid_xfe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89440" y="704844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VidBuf_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288360" y="74106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LoadN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289080" y="7702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289800" y="798984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HBlank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289440" y="128916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OPB_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2698920" y="116208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3130560" y="116352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3562200" y="116532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3994200" y="116676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425840" y="116856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4857840" y="117000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5289480" y="117144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5721480" y="117324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6153120" y="117468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6585120" y="117648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7016760" y="117792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7448400" y="117936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7880400" y="118116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8312040" y="118260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6157800" y="776592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6084720" y="773892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6589800" y="776592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6516720" y="773892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8317080" y="7061040"/>
            <a:ext cx="4248000" cy="216000"/>
          </a:xfrm>
          <a:prstGeom prst="hexagon">
            <a:avLst>
              <a:gd name="adj" fmla="val 36147"/>
              <a:gd name="vf" fmla="val 115470"/>
            </a:avLst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1788920" y="7761240"/>
            <a:ext cx="1296720" cy="216000"/>
          </a:xfrm>
          <a:prstGeom prst="roundRect">
            <a:avLst>
              <a:gd name="adj" fmla="val 36764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10910880" y="7770960"/>
            <a:ext cx="431640" cy="21564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0837800" y="774396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1342520" y="7770960"/>
            <a:ext cx="432000" cy="21564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11269800" y="774396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10910880" y="81392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11126880" y="81392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11342520" y="81392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11558520" y="81392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565440" y="77724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3492360" y="774540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3998880" y="77724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3925800" y="774540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4430880" y="77724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4357800" y="77454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4862520" y="77724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4789440" y="77454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5294160" y="77724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5221440" y="77454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726160" y="77724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5653080" y="77454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270360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291924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313524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335124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356724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378288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399888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421488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443088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464652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486252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507852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529416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551016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572616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594216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2701800" y="776592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2629080" y="773892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3133800" y="776592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3060720" y="773892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313380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306072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356544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3492360" y="235728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399744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392436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442908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4356000" y="235728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486108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78800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529272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521964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572436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565164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615636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608328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658800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651528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702000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694692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745164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7378560" y="235728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788364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781056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831528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8242200" y="235728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874728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867420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917892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910584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961056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953784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1004256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996948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1047420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1040148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1090620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083312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1133784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1264760" y="235728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176984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169676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220148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12128400" y="235728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8761320" y="20430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8688240" y="201600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919332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912024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9624960" y="20430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9551880" y="201600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1005696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998388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1048860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1041552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10920240" y="20430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1084752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1135224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1127916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11783880" y="20430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1171116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 flipV="1">
            <a:off x="11774520" y="81406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11773080" y="8354880"/>
            <a:ext cx="1296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8317080" y="37512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8317080" y="37512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1221588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1214280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487188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479916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30388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523080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573552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566244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16752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09444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271152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63844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314316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307008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357516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350208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400680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393372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442908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435600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875016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867744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918684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911376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962352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955044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1005984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998712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1049652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1042344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1093320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086012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1136952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129680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1180620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1173312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1224288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1216980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658800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651528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702000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694692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745164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737856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788364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781056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831528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824220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487368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480060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530532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523224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573732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566424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616896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609588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271296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263988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314496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307188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357660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50352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400860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93552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443088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435780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875196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867888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918828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911556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962496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955188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1006164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998856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1049796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1042524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1093464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1086156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137132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1129824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1180800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1173492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1224432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1217124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8317080" y="4319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8532720" y="4319640"/>
            <a:ext cx="4110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8321760" y="41054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8321760" y="41054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8750160" y="4678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8966160" y="4678200"/>
            <a:ext cx="4110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8755200" y="4464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8755200" y="4464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5508720" y="5400720"/>
            <a:ext cx="727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12349080" y="863640"/>
            <a:ext cx="865440" cy="763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8744040" y="115236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9175680" y="115416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9607680" y="115560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10039320" y="115740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10471320" y="115884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0902960" y="116064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11334600" y="116208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11766600" y="116352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12198240" y="116532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2743200" y="3456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15:31:42Z</dcterms:created>
  <dc:creator>steel</dc:creator>
  <dc:description/>
  <dc:language>en-US</dc:language>
  <cp:lastModifiedBy>steel</cp:lastModifiedBy>
  <dcterms:modified xsi:type="dcterms:W3CDTF">2005-08-25T17:08:04Z</dcterms:modified>
  <cp:revision>15</cp:revision>
  <dc:subject/>
  <dc:title>投影片 1</dc:title>
</cp:coreProperties>
</file>